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387-B4E9-4B80-98A1-C5FCDC0B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A3D-5CDF-49A4-92A1-690865B1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5AE-2CC7-46FD-816D-31C73E9B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DC4-35C5-4720-9239-924831F9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B79-BF66-40B0-B847-4ED8E79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642-2B86-4474-8DA1-AF2A6CE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F70-8420-4C6D-89D1-5575DD93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15D-843E-428D-87C4-F194DE65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0F5-E457-4E52-9A17-405ABCDB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D90-4A28-4F7F-B3A6-544E6FE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94C-66E1-4268-8AA2-255E7E3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DA0-1ACA-486E-9D08-81DAF28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7D20-B541-4EA2-A1FA-AF2DC00A1A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06:55:35Z</dcterms:modified>
  <cp:revision>691</cp:revision>
  <dc:subject/>
  <dc:title>Слайд 1</dc:title>
</cp:coreProperties>
</file>